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531492"/>
        <c:axId val="67896429"/>
      </c:barChart>
      <c:catAx>
        <c:axId val="855314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896429"/>
        <c:crosses val="autoZero"/>
        <c:auto val="1"/>
        <c:lblAlgn val="ctr"/>
        <c:lblOffset val="100"/>
        <c:noMultiLvlLbl val="0"/>
      </c:catAx>
      <c:valAx>
        <c:axId val="678964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314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8928-F35C-425D-A82A-22D4F583E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D4C5-28D4-484A-B52E-ABB392F0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B122-C2F4-42AB-A08F-268B477C2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43AC-A282-4B79-A322-B345EF4B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4CF6-C090-49E1-8DED-EDE60FAA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28C6-518B-44E6-91F2-D6F52C57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DF57-1A4B-49B7-BE96-EDB7B642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40F0-3E31-44E3-B10D-D7CDD7FB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54C3-975F-43BD-BB9E-BEFE5911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6EC3-511B-4873-A834-866D6F29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CE1F-153C-40D8-BB11-8BF50E1E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AD0B-4BD7-411F-951D-C0FAA4C1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17E05-06FF-4863-82B5-C6C1F916CA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